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1C4F-0B65-478C-9F3E-925AEBE94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427B-ECA0-4F76-AA2F-709E6EFCE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8B87-D6E0-45E5-9DDC-9EEB1322B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4A74-3557-43DC-8708-AD9178498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m_thankyo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_thankyou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_thankyou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45Z</dcterms:modified>
  <cp:revision>64</cp:revision>
  <dc:subject/>
  <dc:title>謝謝祢, 耶穌</dc:title>
</cp:coreProperties>
</file>