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9831-83E6-4F0A-B64B-D710DB058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6FA6-24DF-410E-93A4-9E20F8EEE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D83E-194F-4981-BE9E-295506CAC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m_sanctuar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m_sanctua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m_sanctuar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54Z</dcterms:modified>
  <cp:revision>20</cp:revision>
  <dc:subject/>
  <dc:title>進入你的聖所</dc:title>
</cp:coreProperties>
</file>