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C04A-F1FE-4B8E-8DB4-8CCE7E080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1752-0EBE-466D-BB99-8F30AE39B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F0C9-202A-4081-8A86-C7F746251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3A51-00E2-407B-A767-26350BF43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y Favorite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em_favorit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y Favorite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favorit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y Favorite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favorit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41Z</dcterms:modified>
  <cp:revision>30</cp:revision>
  <dc:subject/>
  <dc:title>You Are My Favorite</dc:title>
</cp:coreProperties>
</file>