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ACDF-290B-4C84-BCC1-5D3B6CBD9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4264-DE15-4095-B2DA-AB64FCBD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9018-128B-4B05-828B-5A0413B37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3497-423D-4321-A2D8-156C6FC8C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480C-9751-452F-B6DE-E8D68CD8F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e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iloveyou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26Z</dcterms:modified>
  <cp:revision>58</cp:revision>
  <dc:subject/>
  <dc:title>主耶穌, 我愛你 Lord Jesus, I Love You</dc:title>
</cp:coreProperties>
</file>