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2F0-0551-4EC8-83D4-3F5D84D5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42E-F120-4A42-8DD5-4B00534F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92D-C1F3-4618-BAF0-D7267794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EE96-7A52-49D2-8D0A-843C6529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843-3882-4A8D-9A80-D85C3E30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8Z</dcterms:modified>
  <cp:revision>62</cp:revision>
  <dc:subject/>
  <dc:title>我們來讚美主 It’s Time To Praise The Lord </dc:title>
</cp:coreProperties>
</file>