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FB94-B1E6-41FA-B7D8-3317EB90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8269-3722-48CD-A7FE-70B6B407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4A4-F664-43B4-8202-C03C9797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381-D015-4B4F-832E-E1D34098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e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1Z</dcterms:modified>
  <cp:revision>55</cp:revision>
  <dc:subject/>
  <dc:title>我的救主 My Savior</dc:title>
</cp:coreProperties>
</file>