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D890-DEF1-412C-ABF1-D83886A74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1207-528A-4E29-9CA4-4043B22B2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6529-A6E0-4261-9734-843BC1807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233A-58C2-488C-A600-AF61A6B8F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est Love Of Mine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em_greatestlov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est Love Of Mine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greatestlov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est Love Of Mine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greatestlov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32Z</dcterms:modified>
  <cp:revision>50</cp:revision>
  <dc:subject/>
  <dc:title>我的最愛 Greatest Love Of Mine</dc:title>
</cp:coreProperties>
</file>