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3A25-1878-4DA7-A7B9-B6C34E9A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CE7B-841F-474B-BF80-87630DFA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E17E-6CC9-49AA-8F80-627773454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 The Day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 The Day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e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4Z</dcterms:modified>
  <cp:revision>41</cp:revision>
  <dc:subject/>
  <dc:title>把握今天 Seize The Day</dc:title>
</cp:coreProperties>
</file>