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897-3806-41E3-9C24-FB8FC7C61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7C4-A5C4-47B7-8371-9A578545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B82-D729-4D6B-9B14-FCD1B137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A20A-D292-462C-8819-0D965C83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lo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7Z</dcterms:modified>
  <cp:revision>37</cp:revision>
  <dc:subject/>
  <dc:title>榮耀都歸神羔羊 Glory To The Lamb Of God</dc:title>
</cp:coreProperties>
</file>