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F80-0DE1-46B4-87D7-A875F417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D95A-429F-4CF0-98AE-9E106EE1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E3D5-5683-4AFB-9A20-061A39F7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DEA-F336-47C0-BB87-1EB8B0254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A00-BAA4-4869-84A0-252A911E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e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e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0Z</dcterms:modified>
  <cp:revision>26</cp:revision>
  <dc:subject/>
  <dc:title>永遠 Eternity</dc:title>
</cp:coreProperties>
</file>