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95DE-8E4D-4A07-B517-4EF68E62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2332-BA66-4C57-BB52-87228860B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FA3B-C26A-44C8-86FF-ED5151FF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0957-694B-4BC0-BCEE-9F5CBE522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13F-DD5E-4A5A-9361-A8442B12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e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3Z</dcterms:modified>
  <cp:revision>45</cp:revision>
  <dc:subject/>
  <dc:title>片刻的安寧 Moment Of Peace</dc:title>
</cp:coreProperties>
</file>