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B6D4-A84B-416F-8488-D47E6230A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992F-E37F-488B-B2FA-9B48A8BD5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D443-9D7D-4013-95DC-126E36C93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A7D9-6DCD-497D-9353-5164F7E8F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9976-DBC9-4125-87EB-1B6AE674B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em_beautifu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m_beautiful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em_beautiful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em_beautiful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21Z</dcterms:modified>
  <cp:revision>33</cp:revision>
  <dc:subject/>
  <dc:title>你比這一切更美麗 You Are More Beautiful Than These</dc:title>
</cp:coreProperties>
</file>