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69FD-6CA7-4E3D-87DA-8739E732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F77-EF80-41AF-B206-EF72B3AE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B03-34E1-4596-B689-A244319A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6B9-1D63-4341-AD5B-B8F01499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e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7Z</dcterms:modified>
  <cp:revision>69</cp:revision>
  <dc:subject/>
  <dc:title>祢的榮耀彰顯於天 Psalm 8</dc:title>
</cp:coreProperties>
</file>