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56DF-6247-4CB4-8A60-5D24DE1B5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8028-D7BC-4619-8463-B83874C4A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7678-829A-418F-99A7-F374BDAB8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A4BD-C509-4AC1-AA74-8ADF50163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A2C0-E7ED-43A5-8F0F-381AF91C8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, Jesus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em_thankyo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, Jesus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em_thankyo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, Jesus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em_thankyou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, Jesus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em_thankyou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58Z</dcterms:modified>
  <cp:revision>65</cp:revision>
  <dc:subject/>
  <dc:title>謝謝祢, 耶穌 Thank You, Jesus</dc:title>
</cp:coreProperties>
</file>