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88B89-5924-4F9F-BD28-9F69C68AD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706A1-ECC7-4C31-9B7D-9F5AE0EAE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FC9B8-DB2D-41EB-B279-413E80D298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進入你的聖所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Your Sanctuary  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me_sanctuary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進入你的聖所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Your Sanctuary  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9" descr="me_sanctuary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進入你的聖所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Your Sanctuary  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me_sanctuary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49:46Z</dcterms:modified>
  <cp:revision>23</cp:revision>
  <dc:subject/>
  <dc:title>進入你的聖所 In Your Sanctuary</dc:title>
</cp:coreProperties>
</file>