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9F01-852F-4180-8DCE-7524F1695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6039-F9C7-4E5E-94B4-1E78B355C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471C-73B8-427E-8E2C-8F22F78D5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5518-0ED7-4770-9E0D-7BC3FF8C4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0942-743B-4E19-B475-F75FB3D00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1024-AB83-4BBF-80C7-4B83D8AE4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F5A7-F570-4C01-B1B3-4A6DCD155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9FD0-5AFA-419E-8C4A-A92E0C37C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657B-223A-497D-9697-3E404447D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7498-B13F-4CC9-A2AA-664D76B1A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47CF-9038-4C4F-AAC1-A4F63C494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D985-9598-456A-9ECD-ED775E48A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E3200-4D75-49C8-BB22-669C7A814F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荣耀都归祂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E:\圣洁活祭\简体\榮耀都歸祂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荣耀都归祂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E:\圣洁活祭\简体\榮耀都歸祂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荣耀都归祂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E:\圣洁活祭\简体\榮耀都歸祂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中国</cp:lastModifiedBy>
  <dcterms:modified xsi:type="dcterms:W3CDTF">2011-03-23T05:04:33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