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3554-B4C3-499E-BDF4-E603F573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220B-D48F-4E6C-9EC5-0684B173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F92C-F33C-43E1-86A9-355ACA20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59F-3B7E-4424-9819-A4ADB1A4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9EF-FA0B-4F13-B81F-445E2085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DB0-0C17-4B65-BF6B-997AE56B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769C-102D-499D-8243-97F82BB3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01E-BF83-4EB5-9C22-2430551A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C92-0E5D-4F82-8FA4-1273394A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93D-689B-4359-BDBB-8152BF0A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5B6-D97E-42F5-BF87-5AF77787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DEC-7AB1-4B5F-B1A4-67E9628A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A48C-543F-4BA8-9729-690A81056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我獻上自己 (主,我願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我獻上自己 (主,我願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我獻上自己 (主,我願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我獻上自己 (主,我願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体\我獻上自己 (主,我願)\我獻上自己 (主,我願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YC</dc:creator>
  <dc:description/>
  <dc:language>en-US</dc:language>
  <cp:lastModifiedBy>微软中国</cp:lastModifiedBy>
  <dcterms:modified xsi:type="dcterms:W3CDTF">2011-03-23T05:13:1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