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2EE2-E0C0-49A9-B95A-CE90EC4E3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6248-A650-4C1B-9FFA-A1C156324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A8A3-E82E-4C64-9895-F7AD5B477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F079-BEF2-4B8E-9447-A60DD4F10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C42E-A24D-430C-A26C-D8931580D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9850-97DF-4B12-8C11-08924C228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2862-69A2-4C85-8A6D-514F0861D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DC50-A867-4DCB-AEE7-3E626B083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DABA-4497-4C00-8986-D50E53E80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1A0E-B018-437C-960D-BC9E3F241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B769-265A-4B46-8CEF-915454202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54B4-A043-4CBF-95C0-AAA555488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BDDF1-1ECB-4C03-ADD4-454D3C7D56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来吧，我们讚美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E:\圣洁活祭\繁英\來吧, 我們讚美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来吧，我们讚美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E:\圣洁活祭\繁英\來吧, 我們讚美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来吧，我们讚美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E:\圣洁活祭\繁英\來吧, 我們讚美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中国</cp:lastModifiedBy>
  <dcterms:modified xsi:type="dcterms:W3CDTF">2011-03-23T04:38:06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