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825F-AC08-461E-969E-6444F6F9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F82-90AA-4A83-A3B0-4098EE28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E6D-98BA-4B5A-95F4-5A402D12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3AB-2157-489D-849F-DB85533A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9EA-9961-4D49-B56A-5D0C4A19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F4D-6A9E-4DF9-BDAE-FFB26904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BFF-9B9D-43BD-89C1-228A2301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E22-24AA-4F99-9C2E-2F8339DE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48B-94E2-44E0-A332-ED847602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383-3111-47C7-B1E2-F039313A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EFE-ABEC-4468-8531-3512D7E8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D4C8-4E31-4C57-94B6-79B1E5E2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DD83-2F8E-4E4C-9238-99A7C3E35F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有谁能像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主啊，有谁能像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有谁能像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主啊，有谁能像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有谁能像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主啊，有谁能像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9:06Z</dcterms:modified>
  <cp:revision>4</cp:revision>
  <dc:subject/>
  <dc:title>幻灯片 1</dc:title>
</cp:coreProperties>
</file>