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BE3E-8289-4EB4-B8B4-11B760EA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AF61-FFDF-4918-84C3-26E59DEE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3C49-E31A-4F9D-8AFF-1B48E11B2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D385-27E5-4F40-8BEE-44661751A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2FA1-6028-459D-97FF-42083735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CB65-F50B-4CA4-8512-6FF410C6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5C46-05BE-4D1B-9EA0-05DC1BEB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B14F-E57C-4395-9F6D-14A99562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6981-CF9C-45D9-96C7-1ABD20BE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6B4C-AF5D-41FA-A46D-15AE0FF6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9E6A-6A15-44AA-8BED-D3ADA515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DF37-0C55-4412-8659-371D63ED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475B-18D2-4D72-90BB-B14D4B83AA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哈利路！主我神作王了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哈利路，主我神作王了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哈利路！主我神作王了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哈利路，主我神作王了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哈利路！主我神作王了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哈利路，主我神作王了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5:59Z</dcterms:modified>
  <cp:revision>4</cp:revision>
  <dc:subject/>
  <dc:title>幻灯片 1</dc:title>
</cp:coreProperties>
</file>