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B53-B0E7-4410-9B98-921AA2E3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C81-F4B7-4E22-B045-1346B43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166-6C23-4EDF-8B19-C7F36758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368-F5A9-46FD-9F1D-46A9A148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40A-8014-447B-BBE4-6D96035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0B1-BF95-4862-B638-C7C4EEFD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0FC-EDA9-453D-B12A-B5DB188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62D-C6BA-4B7A-B93D-1636CB2F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D76-4A75-4F48-812C-3C7E7D3A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9CC-F165-478A-BDBC-D3CF3FD1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A72-FFAE-41C6-BEB7-F9A5359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9FF-EE1C-4DCF-8082-31409EB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2A9-8D8E-4A6D-B3B6-7628617418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因此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因此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因此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3:23Z</dcterms:modified>
  <cp:revision>4</cp:revision>
  <dc:subject/>
  <dc:title>幻灯片 1</dc:title>
</cp:coreProperties>
</file>