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68BE-D335-4B59-8500-0675188B0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FFEA-2F8A-4111-939F-196D2418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5776-1B12-442C-A148-27C789411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FDD9-4B6F-41B2-9DC0-6218A45E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B080-15EE-42DE-BBAE-165D87AF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E3C3-4964-44DA-9711-A2878D5E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BBFE-F444-4E21-9B68-C9FCED32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2AE6-E51F-4027-A6AA-A6B24B15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435F-4479-47B7-98C3-0904102D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7001-7D18-434C-AECD-09E8FD6B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97C5-791D-4DBD-9DE3-F1D25A26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F267-8D8C-434A-8E4E-7558C3A6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81A3-23E9-4D35-9A34-807D5C6369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她的新郎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她的新郎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她的新郎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她的新郎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她的新郎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她的新郎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她的新郎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盟约\她的新郎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9:46Z</dcterms:modified>
  <cp:revision>4</cp:revision>
  <dc:subject/>
  <dc:title>幻灯片 1</dc:title>
</cp:coreProperties>
</file>