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A66-2C09-42B8-A5ED-3ED4B1DA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746-5F60-4E2B-9AC6-52D1E84B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AC6-DBD1-432E-AB3E-C0B9C874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4FC-8D28-4A81-B51A-DA3113CA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CDE-E5A6-4610-919A-93449CC3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1ED-4724-485E-AB4D-44DDF628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777-6D47-4DA4-9840-4A42AB2D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6B8-0C9D-480A-93C4-B069FFD3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5FA-E442-465F-B78C-A5A3254D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1A8-0A05-4A0C-AC95-7C20143C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B0A-ECD4-428E-B43F-C7EC9A5D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2C7-2E40-4AF1-9FCA-68194470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0133-D539-420E-81AA-821F8B0255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心属于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我心属于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心属于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我心属于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心属于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我心属于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Wendy</cp:lastModifiedBy>
  <dcterms:modified xsi:type="dcterms:W3CDTF">2010-06-15T05:25:40Z</dcterms:modified>
  <cp:revision>5</cp:revision>
  <dc:subject/>
  <dc:title>幻灯片 1</dc:title>
</cp:coreProperties>
</file>