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3A5-9759-4001-B968-6A90FD44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F19-BFEE-49DD-A8B5-7C3F2CC9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935-A9B7-4060-BFC1-ADE5BBF8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CA1-CDB5-4381-A301-C697D2DE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A52-F420-44D3-B266-DD321B2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78D-B155-4A29-B109-80B85D4D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956-6C08-4B1E-8ADF-1DE7B7F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0B9-3B94-4EE8-9DDB-0101A5F9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E82-FFDE-40B3-9DF1-894F2EE6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A82-9E9E-4251-9351-6AA464AE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56E-6FCD-4AFD-A02B-8FB5409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979-B6E8-46A7-889B-94E4D9E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8676-4831-4091-8E9F-0BCA64D692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是你所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是你所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是你所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51Z</dcterms:modified>
  <cp:revision>4</cp:revision>
  <dc:subject/>
  <dc:title>幻灯片 1</dc:title>
</cp:coreProperties>
</file>