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904-FCCB-4635-B10F-31BBAD6F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D82-B07A-4016-A864-2EDC54FC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EA0-9CA7-45FF-890E-327B05C7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20F-950C-497F-9FB0-72F67BDD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98F-9156-43B3-970D-507A763B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667-644F-4CA2-B6FB-E18B6DD7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261-E9C6-4241-9D90-6B82995D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7A2-07D1-4A07-B4C4-13BCA24B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8D1-EB6C-40A1-93F1-6DB25192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B03-F9C4-4084-9BA4-6D7A632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876-67CB-4B19-908C-0A1A07CC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879-D3B2-4AC6-91EC-4E62D397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8B65-91E3-4B25-8978-03444D9484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是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是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是谁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是谁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E:\music\诗歌\PPT\2\盟约\是谁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4:37Z</dcterms:modified>
  <cp:revision>4</cp:revision>
  <dc:subject/>
  <dc:title>幻灯片 1</dc:title>
</cp:coreProperties>
</file>