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5C1B-E7D9-4DA3-B8E1-F10993827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2A6B-ECB2-42BF-BEEB-D41C6216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5A92-50D6-4B62-A292-BFC46F1DA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1FD6-2D81-429F-BFC0-B670E7440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F597-4597-423E-8E8A-90F9EF12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17F3-BAD1-4F4C-A020-D8721E46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8F6B-B573-47B1-8596-5B551135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CB4F-8842-4FA9-B9C0-837C3203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EAEB-C05F-4DF9-B1AB-1E1E103B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41F0-EFAA-4F9E-8C67-70453632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6403-1E4C-426D-BCA6-4225CA5E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5E5C-C7B5-434C-A84B-DC5172C6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C06C-8677-46A4-B725-B60D4B413B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盟约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盟约\盟约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盟约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盟约\盟约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盟约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盟约\盟约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盟约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盟约\盟约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盟约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/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E:\music\诗歌\PPT\2\盟约\盟约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6:12:06Z</dcterms:created>
  <dc:creator>YYC</dc:creator>
  <dc:description/>
  <dc:language>en-US</dc:language>
  <cp:lastModifiedBy>微软用户</cp:lastModifiedBy>
  <dcterms:modified xsi:type="dcterms:W3CDTF">2010-06-13T14:37:22Z</dcterms:modified>
  <cp:revision>4</cp:revision>
  <dc:subject/>
  <dc:title>幻灯片 1</dc:title>
</cp:coreProperties>
</file>