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251-7B8B-4CEB-B62D-98BE6F40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31D-8D62-430A-BEFB-8BCC9E8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E8D-4F15-488A-A28F-9E435CAE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21E-7746-4357-AE29-58077DB5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67E-4700-45BD-88C4-6DF018B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499-F798-4936-8076-365F7ED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5D1-DE14-4283-8424-C605CFD7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0F8-BF6E-4074-BE38-EE049856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773-6BE6-46B3-9E4B-387E4CD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7E3-6F6B-4241-8DBD-F8CFB24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682-B990-4BD8-8B71-1565007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15F-FFC7-4644-BE82-06FE8601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E2D2-F821-4C5F-A7DC-503FAB2A60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的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的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的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的爱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2:43Z</dcterms:modified>
  <cp:revision>4</cp:revision>
  <dc:subject/>
  <dc:title>幻灯片 1</dc:title>
</cp:coreProperties>
</file>