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心屬於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心屬於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心屬於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9:36Z</dcterms:modified>
  <cp:revision>24</cp:revision>
  <dc:subject/>
  <dc:title>我心屬於你</dc:title>
</cp:coreProperties>
</file>