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F5F8-EA18-4B14-97EB-B0D89875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4B7-8E4A-49F3-A152-F9239C5F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5B1-64C3-47FC-836B-1E3D4FD5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D86A-0101-4E5F-8714-812A0B67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F45-B138-465A-99A3-DECF050D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C0A-BA21-45B7-8BCD-82D845A6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6D6-FD5F-4131-9233-802AB42A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2885-C141-41AE-BACF-C69D04EA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A96-A77A-4D2E-8110-8D2D1F97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381-C359-4659-B0F3-D5469CD0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5B4-5A8B-4B35-B51D-96AD1CCD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942-1813-4529-B8C4-9543EB18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E0BA-CBED-4569-AF35-A9DB4AE37C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我们自卑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主啊，我们自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我们自卑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主啊，我们自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7:56Z</dcterms:modified>
  <cp:revision>5</cp:revision>
  <dc:subject/>
  <dc:title>幻灯片 1</dc:title>
</cp:coreProperties>
</file>