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7AC-2D53-4A83-B3CB-6D0D5342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838-624F-45A3-A7A6-6A930E1B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510-4FCE-4CAF-A7BD-CD8F6C1F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ADD-1723-4C8F-8B9F-DC5598F2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C20-09C5-4FB7-965C-0811AFC6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646-828A-41CC-BFE3-BCE84FA7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045-FB65-4811-8228-9C4D4C86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60D-ECFE-461B-8F9A-5158226C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F27-B5CA-4FB4-AA57-E8DAB5E7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F2B-C593-4F80-9861-7C89AA67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062-6399-4F1F-A59A-E60CA988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6CA-097F-46AF-8C46-274AA9AD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0217-03F9-4E14-9992-CD2B9921A1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亚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愿你的国降临\哈利路亚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26:11Z</dcterms:modified>
  <cp:revision>7</cp:revision>
  <dc:subject/>
  <dc:title>幻灯片 1</dc:title>
</cp:coreProperties>
</file>