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1D8-E375-43C0-82BA-DB2FF3BF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716-055C-47A9-8EE6-D0B3BF2D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468-46DB-42B8-BC2C-05D8646B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93F-CC03-4D2E-B230-775A362B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43A-AC13-47CC-B441-C6779AE0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A3A-0D7E-4612-9529-CDF9A2EE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00F-8FFE-4193-AFD6-7FBB2735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4F5-EE9E-45A8-9899-39115143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694-F58F-4FAE-9992-1B3AC333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5A1-9A9F-401E-9FF6-BFFE59DB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E73-898E-4A37-90D2-E5E7417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E7D-71F1-43DE-A82E-ACEC1ED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1BC5-97F3-4CA2-BBBB-637107DE3B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尊贵荣耀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尊贵荣耀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尊贵荣耀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8:59Z</dcterms:modified>
  <cp:revision>4</cp:revision>
  <dc:subject/>
  <dc:title>幻灯片 1</dc:title>
</cp:coreProperties>
</file>