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5A4D-B1FB-4F89-93AA-ACC7C54D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1F1F-E395-44BD-AD7B-9929BCC4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7C89-AB14-4C96-B8CF-39FF6418B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1CD6-6800-46C2-8002-596272630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50EE-5960-4634-B0D5-02860083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2433-C976-4700-8B24-62848797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30AB-3E24-4C59-AD31-8A89333E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C4D4-E660-43FF-9966-0B4C2B14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B0F5-65F0-4624-BBEA-1AEB8A42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88A9-5E55-4408-9E54-1D5618CB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CC68-43C8-47F9-93D0-880DBE1B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75B6-57F6-48B3-A5B7-77D6912A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274C-52CA-42C0-B4C9-C6AAEC310C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E:\music\诗歌\PPT\2\愿你的国降临\爱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爱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愿你的国降临\爱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20:34Z</dcterms:modified>
  <cp:revision>5</cp:revision>
  <dc:subject/>
  <dc:title>幻灯片 1</dc:title>
</cp:coreProperties>
</file>