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793-54C8-42AB-A4F8-4DC827CB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863-A5EC-4271-B04B-AD85EBEE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E7E-43F5-4705-A698-A70F1D6F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DA7-AB04-425E-A33F-824CB85C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FBC-B11C-4F0F-B458-8794A98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EC9-0E93-441C-BA65-AB2B986F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4AA-3265-4C19-9471-F5FF974D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683-13B4-4F1C-BF78-C42D0571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7E3-57DD-4023-AA34-606E1731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AA5-D011-4811-9949-2265BF5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342-F4FF-4D47-8D47-E9F14D6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844-5F08-442D-97CE-BA95BD8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89F6-61EF-4285-96F2-23CDF82578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荣耀你圣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荣耀你圣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07Z</dcterms:modified>
  <cp:revision>5</cp:revision>
  <dc:subject/>
  <dc:title>幻灯片 1</dc:title>
</cp:coreProperties>
</file>