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2AFE-C18C-4E78-B2A3-1F46C2E4E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1F1F-E7E6-48F2-A68B-46ADDDEE1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692D-C73A-4060-ABB4-B283AC361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E68D-6047-4A9F-964D-F9C61C178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5098-C1AB-47E0-B705-B0C9DD104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60C4-F41B-4F32-953A-9DECC0E7C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17E4-6092-4404-A281-E0A2375C6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5CB6-2208-4639-806C-720635132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02BB-5993-45E7-995C-459D9DCF3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F411-A0AF-468E-99AE-4814F769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F07A-5077-4B3F-8519-09B3A1CA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AC4B-C55A-496C-B987-A2536C85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EDF5F-561A-49D9-A7D2-177566947FC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你是配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愿你的国降临\你是配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你是配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愿你的国降临\你是配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13:30Z</dcterms:modified>
  <cp:revision>4</cp:revision>
  <dc:subject/>
  <dc:title>幻灯片 1</dc:title>
</cp:coreProperties>
</file>