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99FC-0363-4E9A-AC3B-2DE99FB6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147-E8C3-4E2C-8C7A-40B48E86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A4B-C977-4431-99ED-6CEA2773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EB38-E5F4-4761-855A-6F9A94B3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4CB4-EF35-4679-8E8A-302C3788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B0A-72DD-40FB-8D6F-7EE062DF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E9A-0E6A-4BD8-B25C-D1747312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3F07-DF3B-4273-8327-73027099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D6E6-25D8-45D3-ABF4-25DAF78A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CC2-6FBE-4713-8DCF-683E7161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83F0-9067-4AC5-B3BA-3E35648E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2D9F-A34B-4995-881C-4DC602B4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C8E4-D6FC-416F-96FA-62FB7561B7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耶稣，耶稣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耶稣，耶稣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5:25Z</dcterms:modified>
  <cp:revision>5</cp:revision>
  <dc:subject/>
  <dc:title>幻灯片 1</dc:title>
</cp:coreProperties>
</file>