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23C-7C8A-4053-946B-AB83C360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A64-CB78-456A-84A4-4F8EBF3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FA7-5ED8-4ABA-9DB8-EE0299CD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509-C6A8-405B-966E-0134EB72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AE8-B02C-4AD9-9207-49ECE724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488-4DAF-44E5-B84B-DE81F76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943-5198-4BC1-8556-ED98FEA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5BE-73C7-442F-861D-99927832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F47-1E37-4F7E-82F2-DD4B88AD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4DC-36ED-4333-BC8C-4436FDB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0AB-6277-4B50-9419-D180E2DD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EB5-6AF6-4BAB-AF09-1F2647BF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B87A-A002-415B-B18E-FA631F8045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花尽一生来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花尽一生来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花尽一生来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19Z</dcterms:modified>
  <cp:revision>4</cp:revision>
  <dc:subject/>
  <dc:title>幻灯片 1</dc:title>
</cp:coreProperties>
</file>