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F5E-076D-4982-AC4B-EC2C3505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E52-EDBA-4053-A62E-218FE68E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908-4E81-4B77-9502-60824755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F633-382F-4CBB-9BC1-A7C09503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786-A1BF-4467-B827-67543ABE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0E6-24DB-4FAD-BA97-640112C3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F52-D671-4C21-B984-00EC44FE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503-42A0-43A6-9422-6C5A046E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4BD-E6F2-4BFA-89C3-4CB98426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774-912A-45C0-B9B8-17F4BB2F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52F-ACD0-4B46-BE67-8324C01D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1B9-2BDD-4097-A516-B79931C4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A906-FCE0-47B1-B953-321E91EC81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诗篇23篇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诗篇23篇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诗篇23篇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6:49Z</dcterms:modified>
  <cp:revision>4</cp:revision>
  <dc:subject/>
  <dc:title>幻灯片 1</dc:title>
</cp:coreProperties>
</file>