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72D-A587-4A66-9255-A722AC7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2D8-A4FD-4ADC-AB75-BA3ACF10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AFF-7C94-4C6B-A569-A875FA55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593-0189-4426-B0FF-49D3292B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5B6-D635-40A3-9DB5-85CD5F0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4E6-6718-4E89-A446-985DB055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B26-1CE7-4B3E-A4BE-7FA9EA7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8EE-7A36-4EFA-ACFC-05F90C2D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3F9-065F-487D-8DEB-125196A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575-6811-41D4-8826-69A19A1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AFC-F631-465A-B945-594E4D68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A5D-FCBA-4444-8654-0B6EA08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85FE-F352-4A7F-A27E-97FF25FCD7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愿你的国降临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愿你的国降临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2:46Z</dcterms:modified>
  <cp:revision>4</cp:revision>
  <dc:subject/>
  <dc:title>幻灯片 1</dc:title>
</cp:coreProperties>
</file>