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耶穌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耶穌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5:06:16Z</dcterms:modified>
  <cp:revision>16</cp:revision>
  <dc:subject/>
  <dc:title>耶穌, 耶穌</dc:title>
</cp:coreProperties>
</file>