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9917-E2D3-4741-9A36-354400258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FB98-848F-4D20-A7C9-6367BEF2E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DD26-DD47-4FC1-A56F-DD50B9D66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4318-85EA-4139-9CC9-CF97925C7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9511-8020-4622-819E-16705973E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AA94-F339-47D4-8757-657505937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3485-F2A4-4B96-84BC-700C08EF6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A9F5-1D7B-4308-8528-1B1F5D7E0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6D27-D23D-4AFA-9F50-7C06FA034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2723-DDE1-47F1-8574-30998FEC1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9A73-25E6-48BE-8795-B747043DE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20A3-F956-4644-B7B6-CB9FD58A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46832-4A07-434B-A6D6-B636A13E7EF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耶稣，我的救主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鼓舞\耶稣，我的救主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耶稣，我的救主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鼓舞\耶稣，我的救主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耶稣，我的救主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E:\music\诗歌\PPT\2\鼓舞\耶稣，我的救主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耶稣，我的救主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E:\music\诗歌\PPT\2\鼓舞\耶稣，我的救主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4:27:23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