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1DE4-9A6D-4295-B806-266008884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0211-4008-48C2-9B8F-0050098B0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3CB2-E10D-450B-A179-437DDB14B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09E5-4D00-4FCE-812E-577BCFD24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F7E9-B1CF-4D8D-A558-AF242A68C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0DA4-BA70-418F-9179-39CDA4E4D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E21B-C2D4-4DFB-B43C-720DEBF2F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A2F5-DD42-4840-9C95-30A674655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E9AE-008A-47AB-B6A2-6850E9F7C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DA2B-C031-4E6E-BC0E-75E1330E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A181-6FEC-4645-8EEF-87E74F355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AABE-C166-4F7B-A3D4-2F755A65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BE4DF-0461-47EB-A292-55450845C8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主我邀请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鼓舞\主我邀请你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主我邀请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鼓舞\主我邀请你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主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邀请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E:\music\诗歌\PPT\2\鼓舞\主我邀请你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endy</cp:lastModifiedBy>
  <dcterms:modified xsi:type="dcterms:W3CDTF">2010-06-15T06:17:4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