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ADD9-EF6C-4A1C-A7C8-6A6EF3101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D9FF-C125-4A31-A236-FB96B212B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C517-7053-4469-8812-264192D94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09E5-6B06-4799-96A5-86BD4859F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E3FB-0914-43BD-B0B5-944B12FC7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B178-898D-4C07-8293-D9D304FBF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6FFD-FF1F-4380-A7D6-992A7C27E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98AF-F0A9-44FF-A8A8-91FDA831D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640F-E106-4418-97C0-FF54F08BA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7750-8EFD-4F3D-9EB6-38D7C3E62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CC99-602D-46FA-9CF4-F7A9EB448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5CD5-F6E0-4BB5-BBB0-CABFDCFFB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9A6AF-C193-4DA4-B72F-DCBAF224BEE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主啊，我们自卑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/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1" descr="E:\music\诗歌\PPT\2\愿你的国降临\主啊，我们自卑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主啊，我们自卑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/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1" descr="E:\music\诗歌\PPT\2\愿你的国降临\主啊，我们自卑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04:47:40Z</dcterms:created>
  <dc:creator>YYC</dc:creator>
  <dc:description/>
  <dc:language>en-US</dc:language>
  <cp:lastModifiedBy>微软用户</cp:lastModifiedBy>
  <dcterms:modified xsi:type="dcterms:W3CDTF">2010-06-13T15:17:56Z</dcterms:modified>
  <cp:revision>5</cp:revision>
  <dc:subject/>
  <dc:title>幻灯片 1</dc:title>
</cp:coreProperties>
</file>