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E41-B1FE-4F6E-83DD-AC430A72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EDA-6351-42E5-871D-54C14EF8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CB8-D47B-41BD-8181-CDFD361A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604-BB2B-4325-9B6B-1DDD1655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F92-9F11-4E97-BB36-17E01942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832-672D-46F4-AC27-EAAD0556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80E-62BD-4BBF-81DC-25E2EECC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0DD-5CF5-4A63-9527-AA42B34F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7EB-1472-4E9E-A093-EEA1EE30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1BF-C10A-4306-BB8E-C695ACF1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4EC-B1AF-46E4-A85C-1AE5B7F5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23C-8889-47C1-A5A9-185DD652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12FD-0D59-4168-8876-48AFCC6779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有谁能像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主啊，有谁能像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有谁能像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主啊，有谁能像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有谁能像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主啊，有谁能像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9:06Z</dcterms:modified>
  <cp:revision>4</cp:revision>
  <dc:subject/>
  <dc:title>幻灯片 1</dc:title>
</cp:coreProperties>
</file>