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FA35-DF22-4B68-89F1-ABF281D80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AD9F-692F-40D8-B8EF-D82867A3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E70A-48F3-418C-AECC-D5E981C9D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362B-4BEB-44AA-AD95-0ADDCDF03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B9EA-7635-473C-8DCE-A944A5CD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9CF3-D207-4F4E-9949-4F94AB9E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B29A-796C-4C69-B29E-A23622CF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14DA-7B29-4AF8-9ADE-F143933A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4CCF-FE8E-4B70-B609-FEC28528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4B52-3BAC-4625-B3E6-602FB5AC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8056-469C-42AB-8A46-E07AE8AA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CA35-01A1-4461-8A2D-2D5AD200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6C37-161E-4AB2-BB2F-C9AA20FE9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主啊，誰人親像你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繁体\6. 主啊，誰人親像祢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主啊，誰人親像你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繁体\6. 主啊，誰人親像祢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主啊，誰人親像你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" descr="C:\Documents and Settings\Administrator\桌面\主啊,誰人親像祢\繁体\6. 主啊，誰人親像祢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36:5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