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78B-C6E7-4E38-AE2B-B9AEC0B9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4B8-BDFA-4D37-9B97-F1D142E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DF3-9F02-42D6-922D-E134CE19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37C-C22A-4DED-9C6F-901CD8C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C40-FC3D-4125-81AF-4E423774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B84-3871-4744-87ED-9848A198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1A1-913E-42FE-A3ED-3873A3D5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4EB-85BF-4548-B244-C6219CF6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5AF-1C82-49EA-B7E4-E78306D9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278-2410-45AC-B2C5-B23AE11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689-BBF7-4A1B-923A-4128FDC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CC1-B27C-404C-BB3F-9E5F33C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228-01ED-47DD-955E-4E1B92CB8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主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主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主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主耶稣，我爱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7:53Z</dcterms:modified>
  <cp:revision>4</cp:revision>
  <dc:subject/>
  <dc:title>幻灯片 1</dc:title>
</cp:coreProperties>
</file>