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60FE-57D0-43B4-9F50-03D9ECB8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0C4-A63D-40A0-8DAC-16D8668E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CD7E-90F1-4659-B289-77DFAAF3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8B7B-7405-4A5E-96DC-91C644D1B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7FF1-E52D-4B8A-9943-26A979DB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e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love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26Z</dcterms:modified>
  <cp:revision>58</cp:revision>
  <dc:subject/>
  <dc:title>主耶穌, 我愛你 Lord Jesus, I Love You</dc:title>
</cp:coreProperties>
</file>