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C7A-73A0-4335-9525-C0555077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7F5E-D7BE-459F-8A9A-145AAF74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4BB-C774-4336-96B4-84CCDD7E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4C5-7AB1-4428-93DD-1277A461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EE8-56AB-4340-B885-36AEA44F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84D-8983-44C1-8CF0-7BE78D58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FC3A-7472-4BC5-8F3B-82B11CAA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5CCA-3318-4464-A026-4184CDC6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B81-81A4-4982-94FC-E9B7BDA3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C49-1B42-4302-838A-CEF26740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EB10-B550-4CC0-AD4B-A563183C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AF87-DE38-44DA-9EC4-45D4DD35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77B5786-C413-4F5D-A5B1-D00C6A393B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3240" y="692640"/>
            <a:ext cx="914364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亙古的愛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201400"/>
            <a:ext cx="914688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0" y="5419800"/>
            <a:ext cx="9143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0" y="5334120"/>
            <a:ext cx="914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宋体"/>
              </a:rPr>
              <a:t>中文歌詞中的「他」汎指人類，包括了亞當和夏娃，男人和女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-45000" y="972360"/>
            <a:ext cx="9211680" cy="40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許久以前祂有個夢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為自己造了一個新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將他安置浩瀚的宇宙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美麗的地球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20" y="6382440"/>
            <a:ext cx="913788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"/>
          <p:cNvSpPr/>
          <p:nvPr/>
        </p:nvSpPr>
        <p:spPr>
          <a:xfrm>
            <a:off x="720" y="940320"/>
            <a:ext cx="9153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天起涼風晨昏或日落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他倆同行在伊甸園中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直到有天他聽信讒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天人永隔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0" y="189360"/>
            <a:ext cx="9143640" cy="55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噢 但祂心深愛著他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怎能就此遺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日夜思念的新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說我要下到他那裡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用血換他生命 用水將他洗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他必永遠歸我為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4"/>
          <p:cNvSpPr/>
          <p:nvPr/>
        </p:nvSpPr>
        <p:spPr>
          <a:xfrm>
            <a:off x="0" y="98100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如此的愛將石心融化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痛悔的心再次屬於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靈魂甦醒他甘心樂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跟隨祂到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-45000" y="981000"/>
            <a:ext cx="9188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再過不久 號角要響起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榮耀新郎 要駕雲降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要接他回到父家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不再分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"/>
          <p:cNvSpPr/>
          <p:nvPr/>
        </p:nvSpPr>
        <p:spPr>
          <a:xfrm>
            <a:off x="720" y="189360"/>
            <a:ext cx="914292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噢 因祂心深愛著他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不能就此遺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日夜思念的新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說我要下到他那裡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用血換他生命 用水將他洗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他必永遠歸我為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4"/>
          <p:cNvSpPr/>
          <p:nvPr/>
        </p:nvSpPr>
        <p:spPr>
          <a:xfrm>
            <a:off x="-17640" y="981000"/>
            <a:ext cx="918792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那美麗的新天新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再無死亡 也沒有哭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羔羊和新婦從此快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遠在一起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7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  <Words>447</Words>
  <Paragraphs>10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0:51Z</dcterms:modified>
  <cp:revision>12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8</vt:r8>
  </property>
</Properties>
</file>