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E035-EC72-4B51-8116-FFADF569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83A3-D522-4924-97D1-7FEC9B8C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2310-9796-4112-A827-652E4339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65C2-23F9-4922-BA3E-A67563E6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C72C-7E52-468D-8823-95565AE8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B720-AB9E-43A2-B380-DD040D2F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65A2-8F7B-4262-BF54-CB75CFD6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C56B-F047-4068-B444-F0709746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3BE5-CFA9-46E7-845A-4BDA3E06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8F8-B7E8-4C39-9466-8C40814F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E6A6-1DDA-4B48-AD20-45DD47E2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3EEA-4309-41B1-B593-EF04FDEB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1A91FEE-42FA-48D3-A08B-C708E2675D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-13320" y="477000"/>
            <a:ext cx="914796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亙古的愛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385720"/>
            <a:ext cx="914364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</a:t>
            </a: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:</a:t>
            </a: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文本框 2"/>
          <p:cNvSpPr/>
          <p:nvPr/>
        </p:nvSpPr>
        <p:spPr>
          <a:xfrm>
            <a:off x="720" y="2061360"/>
            <a:ext cx="91710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DFKai-SB"/>
                <a:ea typeface="DFKai-SB"/>
              </a:rPr>
              <a:t>ETERNAL LO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0" y="5772240"/>
            <a:ext cx="9143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宋体"/>
              </a:rPr>
              <a:t>中文歌詞中的「他」汎指人類，包括了亞當和夏娃，男人和女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3" name="文本框 4"/>
          <p:cNvSpPr/>
          <p:nvPr/>
        </p:nvSpPr>
        <p:spPr>
          <a:xfrm>
            <a:off x="0" y="477000"/>
            <a:ext cx="913356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在那美麗的新天新地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See, the new earth and heaven are her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再無死亡 也沒有哭泣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Gone is all death, and gone are all tears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羔羊和新婦從此快樂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The Lamb and bride, together at last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永遠在一起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Eternally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9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"/>
          <p:cNvSpPr/>
          <p:nvPr/>
        </p:nvSpPr>
        <p:spPr>
          <a:xfrm>
            <a:off x="0" y="748080"/>
            <a:ext cx="9182880" cy="57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許久以前祂有個夢想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Long in the past, it came to God's mi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為自己造了一個新娘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That He'd create a virtuous brid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將他安置浩瀚的宇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美麗的地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And make a world on which she would thriv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In paradise.</a:t>
            </a: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720" y="405000"/>
            <a:ext cx="9151200" cy="58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天起涼風晨昏或日落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How He'd enjoy the cool of the day,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他倆同行在伊甸園中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When He would walk that beautiful pla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直到有天他聽信讒言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With His true love! -- till she bought a l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天人永隔絕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That tore her awa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"/>
          <p:cNvSpPr/>
          <p:nvPr/>
        </p:nvSpPr>
        <p:spPr>
          <a:xfrm>
            <a:off x="0" y="838080"/>
            <a:ext cx="9143640" cy="53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噢 但祂心深愛著他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Oh, in His heart He loved her so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怎能就此遺忘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He would not just forget,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日夜思念的新娘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He would not abandon His brid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"/>
          <p:cNvSpPr/>
          <p:nvPr/>
        </p:nvSpPr>
        <p:spPr>
          <a:xfrm>
            <a:off x="7016760" y="6382440"/>
            <a:ext cx="212688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8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4"/>
          <p:cNvSpPr/>
          <p:nvPr/>
        </p:nvSpPr>
        <p:spPr>
          <a:xfrm>
            <a:off x="0" y="405000"/>
            <a:ext cx="9153720" cy="58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說我要下到他那裡去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So He said, "To My cherished one I'll go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用血換他生命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And with blood I'll redeem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用水將他洗淨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And with water wash cle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他必永遠歸我為妻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My beloved and she will be Mine."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"/>
          <p:cNvSpPr/>
          <p:nvPr/>
        </p:nvSpPr>
        <p:spPr>
          <a:xfrm>
            <a:off x="0" y="477000"/>
            <a:ext cx="9143640" cy="51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如此的愛將石心融化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This act of love performed for her sak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痛悔的心再次屬於祂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Melted her heart; her soul was awak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靈魂甦醒他甘心樂意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Freed from her guilt, and brimming with joy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跟隨祂到底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His hand she would tak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"/>
          <p:cNvSpPr/>
          <p:nvPr/>
        </p:nvSpPr>
        <p:spPr>
          <a:xfrm>
            <a:off x="0" y="477000"/>
            <a:ext cx="9143640" cy="55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再過不久 號角要響起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And before long, the trumpet shall sound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榮耀新郎 要駕雲降臨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Calling the bride, caught up in the clouds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要接他回到父家去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Bringing her home, to where she belongs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永不再分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The Father's hous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6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4"/>
          <p:cNvSpPr/>
          <p:nvPr/>
        </p:nvSpPr>
        <p:spPr>
          <a:xfrm>
            <a:off x="9360" y="838080"/>
            <a:ext cx="9134280" cy="55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噢 因祂心深愛著他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Oh, in His heart He loved her so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不能就此遺忘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He would not just forget,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日夜思念的新娘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He would not abandon His brid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7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"/>
          <p:cNvSpPr/>
          <p:nvPr/>
        </p:nvSpPr>
        <p:spPr>
          <a:xfrm>
            <a:off x="7016760" y="6382440"/>
            <a:ext cx="212688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8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4"/>
          <p:cNvSpPr/>
          <p:nvPr/>
        </p:nvSpPr>
        <p:spPr>
          <a:xfrm>
            <a:off x="0" y="405000"/>
            <a:ext cx="9153720" cy="58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說我要下到他那裡去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So He said, "To My cherished one I'll go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用血換他生命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And with blood I'll redeem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用水將他洗淨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And with water wash cle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他必永遠歸我為妻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My beloved and she will be Mine."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  <Words>762</Words>
  <Paragraphs>14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1:37Z</dcterms:modified>
  <cp:revision>12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10</vt:r8>
  </property>
</Properties>
</file>