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C47-1539-46E2-A3DB-4A710C85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5E0-6DEC-4423-BF7D-CAF24D14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BF4-8C02-494A-8537-7F8ECE20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48E-00A6-4C08-A312-0EE815A5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FBA-9003-4782-85E7-32DB9705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DAC-87A9-4623-9D4B-F3359441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C01-E7DA-494D-917E-15253CED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24C-6DD8-4461-9EB7-B79E23D7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021-BE11-4FE4-AD9D-56EBA5FF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DD8-0E69-4178-AFBB-1CA03A65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0D1-0A2D-4990-B02F-FBA17391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D56-ADF0-43ED-9F33-417C20DC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4B34B09-CA7C-45D7-B8E3-E19B8243F0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47700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493000"/>
            <a:ext cx="914364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0" y="213300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I'LL STILL BELIE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838080"/>
            <a:ext cx="914364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自有永有 至聖至尊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he one Eternal, pure and holy --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誰能尋見 祂的蹤跡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who can claim to know His ways?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7020720" y="638172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838080"/>
            <a:ext cx="9143640" cy="49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work is perfect, good and uprigh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all His ways are without blame!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533520"/>
            <a:ext cx="9143640" cy="54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烈火窯中 我仍要相信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Even faced with death, I'll still believ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必拯救我脫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For I know He can deliver me,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but should He not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 我仍要尊榮祂聖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Unto His name all glory b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尊榮祂聖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I will still believ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838080"/>
            <a:ext cx="9143640" cy="53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有就有 命立就立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he one Creator and Sustainer --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誰能抵擋 祂的旨意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can prevail against His way? Oh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,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73" name="文本框 4"/>
          <p:cNvSpPr/>
          <p:nvPr/>
        </p:nvSpPr>
        <p:spPr>
          <a:xfrm>
            <a:off x="0" y="838080"/>
            <a:ext cx="9143640" cy="42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work is perfect, good and uprigh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all His ways are without blame!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"/>
          <p:cNvSpPr/>
          <p:nvPr/>
        </p:nvSpPr>
        <p:spPr>
          <a:xfrm>
            <a:off x="0" y="380880"/>
            <a:ext cx="914364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祂不休息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God alone is strong to save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愛不離不棄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steadfast love is sur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永不改變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e's the same in every age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信實直到永遠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faithfulness endures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  <Words>469</Words>
  <Paragraphs>1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2:5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