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6C1-463F-469F-9245-BBFF1108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F67-6B92-4FE8-88EA-89730784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B6A-5CC5-4815-A6AA-5F25F796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48C-3E53-4B4B-87C2-F8582043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CA1-A5C4-430B-A77A-E5F8D7B7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8FF-F38B-4486-B5E7-A685A828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AD9-3CE5-4BAC-9D62-78ACD910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923-7C18-4ED6-AE6F-3DCC45AD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34D-EA49-433A-AD77-A6079AD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0F9-A66B-4F6A-A220-AF79910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113-D7DF-495A-AC8F-0F1CFC8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C46-4AF8-4605-899E-C697291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19C6-EC79-477A-91EE-A7090433E3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哈利路，主我神作王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哈利路，主我神作王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哈利路，主我神作王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5:59Z</dcterms:modified>
  <cp:revision>4</cp:revision>
  <dc:subject/>
  <dc:title>幻灯片 1</dc:title>
</cp:coreProperties>
</file>